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848-41A9-4877-8943-523A8077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649-B22B-46C6-BD6C-4136844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41D-54C3-410A-A4FD-9E490572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04D-6530-4F90-AB71-89115510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69A-2D6A-496C-91C8-709AFEC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F2E-A33A-4279-B4F7-96D6B29F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47B-F226-41C7-BD4B-42DB4D12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1D5-A6AB-43FD-974B-B32BEE59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BC9-A4E0-4B76-B3F7-F8DD76B5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DA2-2C76-4E6C-8AA9-0249E39A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143-A575-4651-B88B-0461279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0BB-8EE8-4E70-B27D-EC4332B1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3086-798D-4054-898D-3DB00FF167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193240" cy="348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579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в МАДОУ «ЦРР-Детский сад № 21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«ЛГ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РОДОЛЖАЕМ РАБОТ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утогенная трени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я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лакс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сихологический душ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Диагностика по методике В.В. Бойко «Исследование эмоционального выгорания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Измерение уровня проявления у педагогов эмоционального выгорания. Выявление педагогов с наличием синдром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Рисунок 5" descr="GRy5RcUWbiU.jpg"/>
          <p:cNvPicPr/>
          <p:nvPr/>
        </p:nvPicPr>
        <p:blipFill>
          <a:blip r:embed="rId1"/>
          <a:stretch/>
        </p:blipFill>
        <p:spPr>
          <a:xfrm>
            <a:off x="1447920" y="2743200"/>
            <a:ext cx="2771640" cy="3695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3qjSq5XcAW4.jpg"/>
          <p:cNvPicPr/>
          <p:nvPr/>
        </p:nvPicPr>
        <p:blipFill>
          <a:blip r:embed="rId2"/>
          <a:stretch/>
        </p:blipFill>
        <p:spPr>
          <a:xfrm>
            <a:off x="4876920" y="2743200"/>
            <a:ext cx="2771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Дискуссия «Плюсы и минусы профессии «Педагог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Помочь увидеть позитивные стороны профессии «Педагог» в сравнении с другими професси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PIC_1564"/>
          <p:cNvPicPr/>
          <p:nvPr/>
        </p:nvPicPr>
        <p:blipFill>
          <a:blip r:embed="rId1"/>
          <a:stretch/>
        </p:blipFill>
        <p:spPr>
          <a:xfrm>
            <a:off x="4343400" y="3124080"/>
            <a:ext cx="4578480" cy="259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lhqAS2yAbvs.jpg"/>
          <p:cNvPicPr/>
          <p:nvPr/>
        </p:nvPicPr>
        <p:blipFill>
          <a:blip r:embed="rId2"/>
          <a:stretch/>
        </p:blipFill>
        <p:spPr>
          <a:xfrm>
            <a:off x="228600" y="3124080"/>
            <a:ext cx="3556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Тренинг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«Моя профессия – воспитатель!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175248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Развитие уверенности в себе как в педагоге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Содержимое 6" descr="QcWlBFiR2lI.jpg"/>
          <p:cNvPicPr/>
          <p:nvPr/>
        </p:nvPicPr>
        <p:blipFill>
          <a:blip r:embed="rId1"/>
          <a:stretch/>
        </p:blipFill>
        <p:spPr>
          <a:xfrm>
            <a:off x="762120" y="21337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NYODfvZSzGY.jpg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руглый стол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«Мы – профессионалы!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Способствование осознанию своей ценности, стимулирование к передаче опыта молодым педагога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Рисунок 4" descr="xFrX4bl6guw.jpg"/>
          <p:cNvPicPr/>
          <p:nvPr/>
        </p:nvPicPr>
        <p:blipFill>
          <a:blip r:embed="rId1"/>
          <a:stretch/>
        </p:blipFill>
        <p:spPr>
          <a:xfrm>
            <a:off x="3124080" y="2362320"/>
            <a:ext cx="29052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рактикум по телесно-ориентированной терап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Обучение методам и приемам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правленных на профилактик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зникновения стрессов, релаксацию. Провела: психолог  ДОУ Сергеева Э.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PIC_1577"/>
          <p:cNvPicPr/>
          <p:nvPr/>
        </p:nvPicPr>
        <p:blipFill>
          <a:blip r:embed="rId1"/>
          <a:stretch/>
        </p:blipFill>
        <p:spPr>
          <a:xfrm>
            <a:off x="60948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PIC_1578"/>
          <p:cNvPicPr/>
          <p:nvPr/>
        </p:nvPicPr>
        <p:blipFill>
          <a:blip r:embed="rId2"/>
          <a:stretch/>
        </p:blipFill>
        <p:spPr>
          <a:xfrm>
            <a:off x="5257800" y="1828800"/>
            <a:ext cx="354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Тренинг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Бесконфликтное общени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04920" y="1981080"/>
            <a:ext cx="4038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ь: Предотвращение конфликтов, обучение проявлению чувства юмора в общени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Содержимое 6" descr="EdG1rEVC-cA.jpg"/>
          <p:cNvPicPr/>
          <p:nvPr/>
        </p:nvPicPr>
        <p:blipFill>
          <a:blip r:embed="rId1"/>
          <a:stretch/>
        </p:blipFill>
        <p:spPr>
          <a:xfrm>
            <a:off x="4114800" y="2133720"/>
            <a:ext cx="484812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ррекционная рабо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утогенная трениро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флексия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лакс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сихологический душ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PIC_1597"/>
          <p:cNvPicPr/>
          <p:nvPr/>
        </p:nvPicPr>
        <p:blipFill>
          <a:blip r:embed="rId1"/>
          <a:srcRect l="5907" t="10927" r="0" b="5463"/>
          <a:stretch/>
        </p:blipFill>
        <p:spPr>
          <a:xfrm>
            <a:off x="4267080" y="1447920"/>
            <a:ext cx="4437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 РЕАЛИЗАЦИИ ПРОЕКТА</a:t>
            </a:r>
            <a:br>
              <a:rPr sz="4400"/>
            </a:b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Дружная, сплоченная, работоспособная и конкурентноспособная команда педаго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риса</dc:creator>
  <dc:description/>
  <dc:language>en-US</dc:language>
  <cp:lastModifiedBy>Лариса</cp:lastModifiedBy>
  <dcterms:modified xsi:type="dcterms:W3CDTF">2022-04-24T07:35:4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